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4468-AC40-4ADB-8DF3-EA2788908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3DEB-3EEF-45DC-BB64-2CC47345A6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F00-2C96-4BA4-B4A8-FC8DE280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A02-AED3-4283-9DFF-CEF75399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652-FF0C-4C8E-B983-05C31467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E29-E030-457E-AF93-681E3B14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EC3-A0AE-41D0-92AD-749EE1CF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287-7F8F-41F9-95C3-02D94710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02F-7DCE-4E0D-91D3-9196C5C6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4F0-21D0-453C-A6E7-73299044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89A-9B4F-48B2-8EE1-EB7F90B2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41F-7827-49E7-BE7B-D324AA1B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BB6-C2A7-4BF7-A079-6B4CB287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83A-099D-48D5-8436-2A07085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7F06-DE76-49C2-94F2-331BA0397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/19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362320"/>
            <a:ext cx="7467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ce and Motion Qu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ave Intro Slinky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9673" t="36634" r="30769" b="23813"/>
          <a:stretch/>
        </p:blipFill>
        <p:spPr>
          <a:xfrm>
            <a:off x="45720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5880" y="15228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6 -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3282" t="15627" r="14844" b="13540"/>
          <a:stretch/>
        </p:blipFill>
        <p:spPr>
          <a:xfrm>
            <a:off x="228600" y="228600"/>
            <a:ext cx="8534520" cy="6308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571500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6 -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3282" t="14584" r="14844" b="13540"/>
          <a:stretch/>
        </p:blipFill>
        <p:spPr>
          <a:xfrm>
            <a:off x="30492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72200" y="15228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9 -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52280" y="7632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view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572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erlin Sans FB"/>
              </a:rPr>
              <a:t>Identify the parts of a wav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683160"/>
            <a:ext cx="8686800" cy="289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Wavelength (crest to crest, trough to trough, or point to corresponding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= Amplitude (from rest to crest or crest to tr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trough (bottom of w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= Crest (top of w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3840" y="1233360"/>
            <a:ext cx="8867880" cy="2271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1371600"/>
            <a:ext cx="320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04560" y="1676520"/>
            <a:ext cx="1447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16765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2590920"/>
            <a:ext cx="381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8440" y="2666880"/>
            <a:ext cx="380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2200" y="2647800"/>
            <a:ext cx="381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29080" y="1314360"/>
            <a:ext cx="381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295280"/>
            <a:ext cx="380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86800" y="1295280"/>
            <a:ext cx="380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971800"/>
            <a:ext cx="3657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514600"/>
            <a:ext cx="380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2438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538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2833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440" y="250308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ng in a mousetrap by Fri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velength of the wave in the diagram above is given by letter ______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2286000"/>
          <a:ext cx="45720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86000"/>
                    <a:ext cx="45720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ResponseCounter"/>
          <p:cNvGrpSpPr/>
          <p:nvPr/>
        </p:nvGrpSpPr>
        <p:grpSpPr>
          <a:xfrm>
            <a:off x="127080" y="1600200"/>
            <a:ext cx="1511280" cy="5130360"/>
            <a:chOff x="127080" y="1600200"/>
            <a:chExt cx="1511280" cy="5130360"/>
          </a:xfrm>
        </p:grpSpPr>
        <p:sp>
          <p:nvSpPr>
            <p:cNvPr id="102" name="RCPole"/>
            <p:cNvSpPr/>
            <p:nvPr/>
          </p:nvSpPr>
          <p:spPr>
            <a:xfrm>
              <a:off x="317520" y="1804320"/>
              <a:ext cx="0" cy="4806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CFlag"/>
            <p:cNvSpPr/>
            <p:nvPr/>
          </p:nvSpPr>
          <p:spPr>
            <a:xfrm>
              <a:off x="368280" y="5889600"/>
              <a:ext cx="1270080" cy="7207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3240 h 720720"/>
                <a:gd name="textAreaBottom" fmla="*/ 6274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CTop"/>
            <p:cNvSpPr/>
            <p:nvPr/>
          </p:nvSpPr>
          <p:spPr>
            <a:xfrm>
              <a:off x="127080" y="1600200"/>
              <a:ext cx="381240" cy="2401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CBottom"/>
            <p:cNvSpPr/>
            <p:nvPr/>
          </p:nvSpPr>
          <p:spPr>
            <a:xfrm>
              <a:off x="127080" y="6610680"/>
              <a:ext cx="406440" cy="119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4114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09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plitude of the wave in the diagram above is given by letter _____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TPChart"/>
          <p:cNvGraphicFramePr/>
          <p:nvPr/>
        </p:nvGraphicFramePr>
        <p:xfrm>
          <a:off x="4508640" y="2286000"/>
          <a:ext cx="45720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86000"/>
                    <a:ext cx="45720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ResponseCounter"/>
          <p:cNvGrpSpPr/>
          <p:nvPr/>
        </p:nvGrpSpPr>
        <p:grpSpPr>
          <a:xfrm>
            <a:off x="127080" y="1600200"/>
            <a:ext cx="1511280" cy="5130360"/>
            <a:chOff x="127080" y="1600200"/>
            <a:chExt cx="1511280" cy="5130360"/>
          </a:xfrm>
        </p:grpSpPr>
        <p:sp>
          <p:nvSpPr>
            <p:cNvPr id="115" name="RCPole"/>
            <p:cNvSpPr/>
            <p:nvPr/>
          </p:nvSpPr>
          <p:spPr>
            <a:xfrm>
              <a:off x="317520" y="1804320"/>
              <a:ext cx="0" cy="4806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CFlag"/>
            <p:cNvSpPr/>
            <p:nvPr/>
          </p:nvSpPr>
          <p:spPr>
            <a:xfrm>
              <a:off x="368280" y="5889600"/>
              <a:ext cx="1270080" cy="7207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3240 h 720720"/>
                <a:gd name="textAreaBottom" fmla="*/ 6274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CTop"/>
            <p:cNvSpPr/>
            <p:nvPr/>
          </p:nvSpPr>
          <p:spPr>
            <a:xfrm>
              <a:off x="127080" y="1600200"/>
              <a:ext cx="381240" cy="2401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CBottom"/>
            <p:cNvSpPr/>
            <p:nvPr/>
          </p:nvSpPr>
          <p:spPr>
            <a:xfrm>
              <a:off x="127080" y="6610680"/>
              <a:ext cx="406440" cy="119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4114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22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the interval which represents one full wavelengt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TPChart"/>
          <p:cNvGraphicFramePr/>
          <p:nvPr/>
        </p:nvGraphicFramePr>
        <p:xfrm>
          <a:off x="4508640" y="2286000"/>
          <a:ext cx="45720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86000"/>
                    <a:ext cx="45720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ResponseCounter"/>
          <p:cNvGrpSpPr/>
          <p:nvPr/>
        </p:nvGrpSpPr>
        <p:grpSpPr>
          <a:xfrm>
            <a:off x="127080" y="1600200"/>
            <a:ext cx="1511280" cy="5130360"/>
            <a:chOff x="127080" y="1600200"/>
            <a:chExt cx="1511280" cy="5130360"/>
          </a:xfrm>
        </p:grpSpPr>
        <p:sp>
          <p:nvSpPr>
            <p:cNvPr id="128" name="RCPole"/>
            <p:cNvSpPr/>
            <p:nvPr/>
          </p:nvSpPr>
          <p:spPr>
            <a:xfrm>
              <a:off x="317520" y="1804320"/>
              <a:ext cx="0" cy="4806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CFlag"/>
            <p:cNvSpPr/>
            <p:nvPr/>
          </p:nvSpPr>
          <p:spPr>
            <a:xfrm>
              <a:off x="368280" y="5889600"/>
              <a:ext cx="1270080" cy="7207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3240 h 720720"/>
                <a:gd name="textAreaBottom" fmla="*/ 6274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CTop"/>
            <p:cNvSpPr/>
            <p:nvPr/>
          </p:nvSpPr>
          <p:spPr>
            <a:xfrm>
              <a:off x="127080" y="1600200"/>
              <a:ext cx="381240" cy="2401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CBottom"/>
            <p:cNvSpPr/>
            <p:nvPr/>
          </p:nvSpPr>
          <p:spPr>
            <a:xfrm>
              <a:off x="127080" y="6610680"/>
              <a:ext cx="406440" cy="119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4114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to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to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35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57200" y="685800"/>
            <a:ext cx="807732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READY FOR OUR 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t Name and Class on bubble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out pencil and any notes/papers/key questions you have completed…you MAY use these on the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Clear Desks for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and Moti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s Textbook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waves Cha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traps by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avels in wa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0FDB01E0-0A08-47D1-863D-745EF1B3272F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Identify and describe the parts of a wave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 and Motion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o not write on quiz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quiz and bubble sheet when you fi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ound and light book and read pages 18 to 22 until everyone is finished with the quiz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and read pages 14-17 if you finish the first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038480" y="4038480"/>
            <a:ext cx="464832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533520"/>
            <a:ext cx="8381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king Wave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king Wa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hain supplied to make some waves on your desktop. (Draw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textbook to define the terms “Crest” and “Trough”.  (Write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a crest and trough on your drawing from 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extbook to define the term “Amplitude”.  (Record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waves with large and small amplitudes and draw an example of each in your not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extbook to define and record the term “Wavelength”. (Write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making waves with long and short wavelengths using the chain suppl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picture of a wave with a long wavelength and a picture of a wave with a short wave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extbook to define the term “Frequency”.  (Record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waves with high and low frequency and draw an example of each in your not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r waves with low frequency compare to the waves with long wavelengths you drew in step 6?  What about when you compare high frequency and short waveleng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draw a final wave example and label all of the parts you learned about during this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9591" t="36738" r="31633" b="22449"/>
          <a:stretch/>
        </p:blipFill>
        <p:spPr>
          <a:xfrm>
            <a:off x="609480" y="380880"/>
            <a:ext cx="7848720" cy="6195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1276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2 &amp;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9167" t="37501" r="30208" b="23611"/>
          <a:stretch/>
        </p:blipFill>
        <p:spPr>
          <a:xfrm>
            <a:off x="228600" y="228600"/>
            <a:ext cx="8763120" cy="6291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563868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4 &amp;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9:01:06Z</dcterms:created>
  <dc:creator>krmihal</dc:creator>
  <dc:description/>
  <dc:language>en-US</dc:language>
  <cp:lastModifiedBy>krmihal</cp:lastModifiedBy>
  <dcterms:modified xsi:type="dcterms:W3CDTF">2010-05-19T19:01:28Z</dcterms:modified>
  <cp:revision>1</cp:revision>
  <dc:subject/>
  <dc:title>Slide 1</dc:title>
</cp:coreProperties>
</file>